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CEFBE-2DE3-4DF6-8CA1-E1ED6CF83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AE15E-9763-41B0-8B15-B37C69CC76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34657-7453-4B6C-97E6-E970ED9EF4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26809-3987-4C88-9026-637A36BF23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1C11E-01D0-4FEA-9543-5166B4A4D8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1AD37-0A26-41DC-A882-F805AD7CCF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4A7D9-E2A1-42BD-B943-D176D1B945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830C2-DF19-41E4-B6F8-1633C925EE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6BB44-5D19-43A5-893C-03BCC213D0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2CAA0-9B04-4904-9579-36409A1F50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861E9-45B8-4C2A-A79D-A3ADA0C27E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CAC61-3E24-4193-9FBC-1E7B61830B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ED3C5-A757-4CAE-A075-E7828D6866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E589B-8C1C-46B8-BF81-DFEB08293A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5770F0-A725-41E1-B196-05C9ACADC5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B4308-4AA0-4A6E-859B-74B57CBA08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1908E-72BE-4F86-B165-3D3F3BA437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AACBA-EC8B-434C-B58F-B103B70FEB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CBAAC-87FB-4FF6-A760-8453F58FF4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79CAD-69C2-460D-B0DB-BE3932A6DE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CE0BB-EB49-4814-8381-D78862D04D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A3204-DD07-4B71-8EDB-7D1FB0EBC8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5D8D6-C536-4004-9490-9399341401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BA28F-1AEC-4617-AD6F-208CC5E263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4A83E-262A-41D6-86FE-A0DFED789F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13795-ACC8-49B8-915D-D27F10C75F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A87B6-7CDB-478C-8594-967431D427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757BB-AF32-40D9-A6DA-4965BC4E5E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A3687-51E0-41EA-B772-10417E447A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1098D-0FBE-48E0-86FC-E0CDEADCBA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60FA4-4FC4-45B9-93DB-FD9BBC393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FCFAB-436C-44D0-99E9-923C718CE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57A91-64E5-454D-91B6-221E8574D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3A185-EEA9-4C7D-8C49-00B1F13FF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142CC-4420-42DF-9A0F-2E74FCC585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66B52-572C-482E-A9C8-6EA3F88BDF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51767-4ED3-4E53-9FCC-9007FF79DD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603A0-582F-42AA-AC4D-5BB1B5A158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A6E39-2165-49DD-91BA-C26B6487EA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2F7F0-1FE6-40FC-81A9-052E3477CB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8F71-44F1-4F0F-B7D4-57A3A549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6701-12B9-4BB9-8B66-E5CE14E7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E347-84E9-4B72-905E-1F5801748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4470-E91A-406A-98EF-BC9607457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2B96-AE2A-441E-A3E4-E189A931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CB35-7522-4F66-9E5C-1E8DC6BA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47D4-9985-42AA-9741-926A6D36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CB38-568E-4FC0-9B65-14A803A9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D498-A15E-4541-9EDF-E254B1BF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EA90-A323-44A6-8F06-8200A4D2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66DF-7DCE-42D2-B116-3E2D14D4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777B-099E-41CA-8B48-F84C7563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EB117-4CB0-4538-A592-FE23384FC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97920" cy="39974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nowledge representation</a:t>
            </a:r>
            <a:br>
              <a:rPr sz="4800"/>
            </a:br>
            <a:br>
              <a:rPr sz="4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cture 1: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o, SQL and logic, N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3280" y="4571640"/>
            <a:ext cx="9097920" cy="2141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. Tam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 in progr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arative knowledge converted to procedural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for easi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utomation and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gh understanding, notes and spec of the solution written down as an actual program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 code compiled into machine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620640" y="248436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rmAutofit fontScale="98000"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Viewing relational databa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as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Presenta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of 1st order predicate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of data in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s as predicates: straightforward en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ies and joins as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objects and features: multiple rows, n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ding structures in db-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 keys as a way to encod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 calculus example 1: pro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503280" y="1417680"/>
            <a:ext cx="9070920" cy="55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680" bIns="0" anchor="t">
            <a:normAutofit fontScale="93000"/>
          </a:bodyPr>
          <a:p>
            <a:pPr marL="318960" indent="-31752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ather(jan,pe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ather(jan,marti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ather(martin,mat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ather(frank,mar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other(mary,mik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grandfather(X,Z) :- father(X,Y), father(Y,Z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grandfather(X,Z) :- father(X,Y), mother(Y,Z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Queri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? father(martin,mi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? father(jan,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? grandfather(X,mi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 calculus 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rmAutofit/>
          </a:bodyPr>
          <a:p>
            <a:pPr marL="106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ther(jim,pete)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 X,Y (bother(X,Y) =&gt; brother(Y,X))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 X,Y (brother(X,Y) =&gt; man(X)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y: man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s: man(jim), man(pe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 calculus with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503280" y="1768320"/>
            <a:ext cx="90709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680" bIns="0" anchor="t">
            <a:normAutofit/>
          </a:bodyPr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ather(pete)=j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ather(martin)=j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ather(matt)=mart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ather(mary)=fra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other(mike)=m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grandfather(X,Z) &lt;- father(Y)=X &amp; father(Z)=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lternative: grandfather(father(father(X)),X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grandfather(X,Z) &lt;- father(Y)=X &amp; mother(Z)=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lternative: grandfather(father(mother(X)),X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in logic have no mea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503280" y="1768320"/>
            <a:ext cx="90709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680" bIns="0" anchor="t">
            <a:normAutofit/>
          </a:bodyPr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oo(p1)=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oo(m1)=j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oo(m2)=m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oo(m3)=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bar(m4)=m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grm(X,Z) &lt;- foo(Y)=X &amp; foo(Z)=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lternative: grm(foo(foo(X)),X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grm(X,Z) &lt;- foo(Y)=X &amp; bar(Z)=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lternative: grm(foo(bar(X)),X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eaning of wor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elations give meaning to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What about = ??  father(john)=pete then just replac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hree basic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e(X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e(X,Y)  -&gt;  e(Y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e(X,Y) &amp; e(Y,Z)  -&gt;  e(X,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xamples: parallel lines, &gt;=, re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eaning of wor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rm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ubstitution rules of equa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(X,Y)  &amp; father(X,Z)  -&gt;  father(Y,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(X,Y)  &amp; father(Z,X)  -&gt;  father(Z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(X,Y)  &amp; e(father(X),Z) -&gt; e(father(Y),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tc for all predicates and functions we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Built-in procedures and theories for relations and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Arithmetics + * etc: procedural attachments (procedural data repres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tring, list, date, file etc etc proc attach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pecial built-in theories like Presburger a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olvers focusing on procedural attachments and built-in theories are called 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SMT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solvers: 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solvers modulo the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KR and reasoning block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Knowledge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QL,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fact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, rules, 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language and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complexities ar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ing uncertain knowledg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Question answering and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tatistical question answ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order logic solv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Hybrid sol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Relational db table and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503280" y="1768320"/>
            <a:ext cx="9069480" cy="55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rmAutofit fontScale="99000"/>
          </a:bodyPr>
          <a:p>
            <a:pPr marL="339480" indent="-338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 t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d     name   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1      john     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      pete       -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Log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(1, john, 1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(2, pete, -2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rm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el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.name, client.bal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from clien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where  balance&lt;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(I, N, B)  &amp; B&lt;0   -&gt;  answer(N,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? answer(X,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SQL join as logical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503280" y="1768320"/>
            <a:ext cx="9069480" cy="56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rm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client table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:                                </a:t>
            </a: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cars table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d     name    balance                   id    model  ow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1      john      100                         1      ford      1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2      pete       -200                       2      opel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3      saab    2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elect client.name, cars.model from client, cars where client.id=cars.own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(I, N, B)  &amp; cars(J, M, I)  -&gt;  ans(N, M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Representing complex structures in relational 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503280" y="1768320"/>
            <a:ext cx="9069480" cy="9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rm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+(*(1.9, 2.5),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e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d   op  a1   t1    a2   t2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1    *     2    D      1  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    +    1     T     3    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Data:    varchar  typ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1     “2.5”     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     “1.9”     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3      “3”        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Special relational db gadge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hese things require extra care when encoding in log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ull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ultiple 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osed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rmAutofit fontScale="96000"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values in two different locations are never equal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(1, jaan, null)  and car(1, opel, null) then null in client is not equal to null in 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ull represents an existentially quantified v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8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xists X. client(1, jaan, X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8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xists X. car(1, opel, X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Ke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503280" y="1768320"/>
            <a:ext cx="9069480" cy="10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Client t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id   name  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1     jan   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2     pete   -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 TABLE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PRIMARY KEY (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Would mean in log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  <a:ea typeface="DejaVu Sans"/>
              </a:rPr>
              <a:t>Client.name(1) = j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  <a:ea typeface="DejaVu Sans"/>
              </a:rPr>
              <a:t>Client.name(2) = p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  <a:ea typeface="DejaVu Sans"/>
              </a:rPr>
              <a:t>Client.balance(1) = 1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    …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ultiple r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rmAutofit fontScale="89000"/>
          </a:bodyPr>
          <a:p>
            <a:pPr marL="305280" indent="-303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payments table without a primary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3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ient  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3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1     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3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1     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3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       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3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wo identical facts in logic mean a single f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3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payments(1, 100)  …. payments(1, 100)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3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3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Open versus closed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503280" y="1768320"/>
            <a:ext cx="9069480" cy="61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lassical logic is 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open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We know N facts. We do NOT say that only these N facts hold: maybe there are M more facts which are true but which we do not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n databases we normally assume that world is 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closed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Only these facts hold which we know. For example, we assume that all the payments performed are in our database. This allows us to use 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aggregate functions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like sum, avg,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503280" y="1768320"/>
            <a:ext cx="9069480" cy="61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rm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L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atural Language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63700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larative and procedural</a:t>
            </a:r>
            <a:br>
              <a:rPr sz="4400"/>
            </a:b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Kinds of NLP processing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69000"/>
          </a:bodyPr>
          <a:p>
            <a:pPr marL="297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There exist highly different methods for NLP, depending on the goals we h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7720" indent="-223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Text similarity det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7720" indent="-223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utomatic summa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7720" indent="-223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Machine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7720" indent="-223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Sentiment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7720" indent="-223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Speech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7720" indent="-223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Information ex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7720" indent="-223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Question answ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7720" indent="-223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7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7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7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7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NLP and restricted Engl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5536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3680" indent="-447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NLP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people normally mean processing „generic“  unrestricted English: we will only partially understand the text and we will often misunderstand important pa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3680" indent="-447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„restricted English“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people normally mean creating and processing a formal and restricted, yet „natural-looking“ English, with an exact meaning given to each sentence. Easy to understand, but really hard to write properl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36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36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Statistics and reasoning in N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493640"/>
            <a:ext cx="9070920" cy="5925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Statistics and learning for creating probabilistic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It is very hard to capture and write down „language rules“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There are far too 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Huge number of exceptions, exceptions to exceptions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Everybody has her own version of language, and it changes all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Logic-based reasoning for disambiguation and knowledge extr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Disambiguate the meaning of „she“, „this“, multi-meaning phrases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Convert parsed and annotated text to databas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Add general contextual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Answer questions about the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Basic steps in NL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Rough guide to what we have to do for knowledge extr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Named entity recognition (N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Mapping NER-d entities to useful global ID-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nnotating text with parts-of-speech, aka POS ta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Parsing: many different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Disambiguation of words and phrases („this“, „she“, 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Conversion to some database/RDF/logic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70920" rIns="70920" tIns="35280" bIns="35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Gill Sans MT"/>
                <a:ea typeface="ヒラギノ角ゴ ProN W3"/>
              </a:rPr>
              <a:t>Case study: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  <a:ea typeface="ヒラギノ角ゴ ProN W3"/>
              </a:rPr>
              <a:t>IBM Wat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611280" y="1712880"/>
            <a:ext cx="8858160" cy="523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larative and proced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sycholo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lar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nowledge is knowing „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w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" (e.g., that Washington D.C. is the capital of America),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oppos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cedu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 knowledge is knowing "how" (e.g., how to drive a ca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larative and proced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ogramm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larative re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ata and rules written in an easily processable simple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dural re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ata and rules written as an executable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ict distinction is - obviously - im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s of declarativ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108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layer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in facts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ny_id: My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1: 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layer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1&lt;123 || X2&lt;65)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result=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s in psych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108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pisodic knowled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emory for "episodes" (i.e., the context of where, when, who with etc); usually measured by accuracy measures, has autobiographical re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ntic knowled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emory for knowledge of the world, facts, meaning of words, etc. (e.g., knowing that the first month of the year is April (alphabetically) but January (chronologicall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No strict demarcation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24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104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mpting to make everything “configurable” leads us to using just another programming language for expressing configurable data and rul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inary programming languages are also seen as “declarative”, at least by compil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 in</a:t>
            </a: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 our br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104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ome initially 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larat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converted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/ optim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d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ning to drive a car, play tennis, 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when I was learning to play tennis, I learned all about the rules of the game, where to come into contact with the ball on my racket, how to make the ball go where I wanted to by the follow through, and how to position my body for a backhand stroke. This is a set of factual information. Putting those facts into practice helped me gain the skills to transform a series of declarative knowledge into procedural knowledge. The skills I acquired couldn't be learned simply by being told. I gained the skills only after actively putting them into practice and being monitored by a coach who was constantly providing feedback.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9:39:15Z</dcterms:created>
  <dc:creator>Tanel Tammet</dc:creator>
  <dc:description/>
  <dc:language>en-US</dc:language>
  <cp:lastModifiedBy>Tanel Tammet</cp:lastModifiedBy>
  <dcterms:modified xsi:type="dcterms:W3CDTF">2019-01-30T09:50:06Z</dcterms:modified>
  <cp:revision>31</cp:revision>
  <dc:subject/>
  <dc:title>Knowledge representation  lecture 1: intro and overview</dc:title>
</cp:coreProperties>
</file>